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</p:sldIdLst>
  <p:sldSz cx="9144000" cy="6858000"/>
  <p:notesSz cx="6858000" cy="9291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B41D0-1C60-42B5-B6D7-58B7211DF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23936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EC49E-FAA3-4791-B5E9-F7E3F3992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2393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2393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17C36-AA9A-4185-BCA2-73421E604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22093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22093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2393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2393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2393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C17BD-61DF-48F4-9138-979EB6769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B4D12-F476-4A3B-8451-78F244900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F23C6-0BBC-4AFA-B2BC-800185908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AB50D-DE5E-476A-A772-0F5B9069C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B010E-3575-40D0-A31E-5B4E8AE9E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DE3E6-794F-4FC9-B96B-5513C3F06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2CA4A-D4DF-4362-9241-E62E87A8F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2393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0A385-8662-465A-BD5D-52B13E91E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36083-C4A9-4963-A006-12A97B246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68480" y="42393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4238D-4F03-499E-962B-6A2845A3A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23936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0B835-9BD9-48CC-96F8-8D10C53E5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85800" y="423936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BBDBB-B699-4EA8-A3EE-415999105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2393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68480" y="42393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3552E-988A-4297-BEF8-0FEDB4554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13800" y="22093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41440" y="22093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85800" y="42393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13800" y="42393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41440" y="42393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E2578-9F91-4238-BDAB-939445D44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F2A384-F95D-4E08-B04F-3F0516714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11BC38-C7C1-4634-8661-A041255B9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ED5F63-B781-483A-B33F-E389DC535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ED261C-8CF4-4651-9175-C02A5FB64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ED87E5-2DD7-4661-AC54-20564EBDA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EEB36-6C42-4945-A6E8-AA8408D3B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C895B8-69B3-423F-8BA4-2F3D3014B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2393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1505D6-93A5-4592-B5C9-6574ED526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2393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B4CFC5-22E4-4E08-8E65-6F38EA1AB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23936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8817F5-C3F6-4397-913A-4A9747682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23936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CD32B5-7084-4FA9-BBBD-C97E0EA94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2393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2393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EBBE3E-091E-4AD3-8B89-F33217BCC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22093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22093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2393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2393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2393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102336-7CB5-4889-896F-F9374EBE6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7F5E8B-E863-48EE-BF72-0A1343ACF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83861B-F7A8-43B2-A7EC-E9DFB458E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170DA9-2556-4508-B57C-21DE14C21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F8B06-0092-445D-835A-221577333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8E64FA-4C7D-4694-8DCD-AA4085B3A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60E341-4060-41CE-AF47-622ED2326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CFD011-AA2E-44AC-AA1E-BE09364E9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85800" y="42393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7D4E5E-A66E-4FC2-90FE-E5AD84F03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668480" y="42393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EA6883-BB10-4086-9287-0174A1FA3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85800" y="423936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A99830-FDBB-4FBE-97BC-CF8FAC8BA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685800" y="423936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744BAE-FCAF-4836-A460-E72FA22E0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85800" y="42393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668480" y="42393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38590B-8E51-4E95-8893-8D2F4D1B9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313800" y="22093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5941440" y="22093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685800" y="42393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313800" y="42393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5941440" y="42393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5F0795-6253-4170-8FEF-C60984061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21D97AC-1476-4275-AD28-C2022D5AD6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8D513-2D7E-42AE-8574-BDEA586D6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E0116E5-7C85-431B-A588-99F2D542F606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5C0D2A6-3E37-4F32-A00E-6B38E744A136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96F9461-A4AB-4002-B74C-C2D4A2A0B7F7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882E458-8070-49AC-874E-0C84C45DA44A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F1168A7-AFCE-42F2-908B-6E0DE5014499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85800" y="42393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D5D53DD-34E3-439D-9DC1-D90384520600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68480" y="42393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CA3AF01-A019-4790-B4EE-72E0F8C8894D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85800" y="423936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EEAD030-35B1-495B-BC93-AF87F1557926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685800" y="423936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511D968-FE42-4568-A8C9-77CF7011DC0B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85800" y="42393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68480" y="42393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E1CCCA6-D797-4606-882A-D74244E724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CB13C-E024-4AFA-AD23-6E561416F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313800" y="22093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5941440" y="22093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685800" y="42393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313800" y="42393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5941440" y="42393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76F52EB-463A-40EB-8535-228E0D5E74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2393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64344-A531-4636-97AA-90DA0E56D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2393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530DE-FE68-4CF4-BDA5-B364FFA92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23936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3A0FE-79BD-4CBC-A050-E18FD8C9D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7C00A-F50A-4F81-A327-2311D4ACC2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0"/>
          <p:cNvSpPr/>
          <p:nvPr/>
        </p:nvSpPr>
        <p:spPr>
          <a:xfrm>
            <a:off x="0" y="1066680"/>
            <a:ext cx="9144000" cy="152640"/>
          </a:xfrm>
          <a:prstGeom prst="rect">
            <a:avLst/>
          </a:prstGeom>
          <a:solidFill>
            <a:srgbClr val="c211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11"/>
          <p:cNvSpPr/>
          <p:nvPr/>
        </p:nvSpPr>
        <p:spPr>
          <a:xfrm>
            <a:off x="0" y="1219320"/>
            <a:ext cx="152280" cy="5638680"/>
          </a:xfrm>
          <a:prstGeom prst="rect">
            <a:avLst/>
          </a:prstGeom>
          <a:solidFill>
            <a:srgbClr val="002a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" descr=""/>
          <p:cNvPicPr/>
          <p:nvPr/>
        </p:nvPicPr>
        <p:blipFill>
          <a:blip r:embed="rId2"/>
          <a:stretch/>
        </p:blipFill>
        <p:spPr>
          <a:xfrm>
            <a:off x="492120" y="109440"/>
            <a:ext cx="2201760" cy="849240"/>
          </a:xfrm>
          <a:prstGeom prst="rect">
            <a:avLst/>
          </a:prstGeom>
          <a:ln w="0">
            <a:noFill/>
          </a:ln>
        </p:spPr>
      </p:pic>
      <p:pic>
        <p:nvPicPr>
          <p:cNvPr id="8" name="Picture 11" descr=""/>
          <p:cNvPicPr/>
          <p:nvPr/>
        </p:nvPicPr>
        <p:blipFill>
          <a:blip r:embed="rId3"/>
          <a:stretch/>
        </p:blipFill>
        <p:spPr>
          <a:xfrm>
            <a:off x="5105520" y="73080"/>
            <a:ext cx="3289320" cy="849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8F4A3-1EC0-489C-8317-CA758DADA9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10"/>
          <p:cNvSpPr/>
          <p:nvPr/>
        </p:nvSpPr>
        <p:spPr>
          <a:xfrm>
            <a:off x="0" y="1066680"/>
            <a:ext cx="9144000" cy="152640"/>
          </a:xfrm>
          <a:prstGeom prst="rect">
            <a:avLst/>
          </a:prstGeom>
          <a:solidFill>
            <a:srgbClr val="c211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11"/>
          <p:cNvSpPr/>
          <p:nvPr/>
        </p:nvSpPr>
        <p:spPr>
          <a:xfrm>
            <a:off x="0" y="1219320"/>
            <a:ext cx="152280" cy="5638680"/>
          </a:xfrm>
          <a:prstGeom prst="rect">
            <a:avLst/>
          </a:prstGeom>
          <a:solidFill>
            <a:srgbClr val="002a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1" descr=""/>
          <p:cNvPicPr/>
          <p:nvPr/>
        </p:nvPicPr>
        <p:blipFill>
          <a:blip r:embed="rId2"/>
          <a:stretch/>
        </p:blipFill>
        <p:spPr>
          <a:xfrm>
            <a:off x="492120" y="109440"/>
            <a:ext cx="2201760" cy="8492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1" descr=""/>
          <p:cNvPicPr/>
          <p:nvPr/>
        </p:nvPicPr>
        <p:blipFill>
          <a:blip r:embed="rId3"/>
          <a:stretch/>
        </p:blipFill>
        <p:spPr>
          <a:xfrm>
            <a:off x="5105520" y="73080"/>
            <a:ext cx="3289320" cy="849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10"/>
          <p:cNvSpPr/>
          <p:nvPr/>
        </p:nvSpPr>
        <p:spPr>
          <a:xfrm>
            <a:off x="152280" y="1752480"/>
            <a:ext cx="8991720" cy="5105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8"/>
          <p:cNvSpPr/>
          <p:nvPr/>
        </p:nvSpPr>
        <p:spPr>
          <a:xfrm>
            <a:off x="0" y="1752480"/>
            <a:ext cx="9144000" cy="152640"/>
          </a:xfrm>
          <a:prstGeom prst="rect">
            <a:avLst/>
          </a:prstGeom>
          <a:solidFill>
            <a:srgbClr val="c211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9"/>
          <p:cNvSpPr/>
          <p:nvPr/>
        </p:nvSpPr>
        <p:spPr>
          <a:xfrm>
            <a:off x="0" y="1905120"/>
            <a:ext cx="152280" cy="4952880"/>
          </a:xfrm>
          <a:prstGeom prst="rect">
            <a:avLst/>
          </a:prstGeom>
          <a:solidFill>
            <a:srgbClr val="002a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14" descr=""/>
          <p:cNvPicPr/>
          <p:nvPr/>
        </p:nvPicPr>
        <p:blipFill>
          <a:blip r:embed="rId2"/>
          <a:stretch/>
        </p:blipFill>
        <p:spPr>
          <a:xfrm>
            <a:off x="165240" y="380880"/>
            <a:ext cx="2203200" cy="8510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5" descr=""/>
          <p:cNvPicPr/>
          <p:nvPr/>
        </p:nvPicPr>
        <p:blipFill>
          <a:blip r:embed="rId3"/>
          <a:stretch/>
        </p:blipFill>
        <p:spPr>
          <a:xfrm>
            <a:off x="5410080" y="380880"/>
            <a:ext cx="3286080" cy="8496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97CA4-8B01-4066-80A4-B2869E4CB0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10"/>
          <p:cNvSpPr/>
          <p:nvPr/>
        </p:nvSpPr>
        <p:spPr>
          <a:xfrm>
            <a:off x="152280" y="1752480"/>
            <a:ext cx="8991720" cy="5105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8"/>
          <p:cNvSpPr/>
          <p:nvPr/>
        </p:nvSpPr>
        <p:spPr>
          <a:xfrm>
            <a:off x="0" y="1752480"/>
            <a:ext cx="9144000" cy="152640"/>
          </a:xfrm>
          <a:prstGeom prst="rect">
            <a:avLst/>
          </a:prstGeom>
          <a:solidFill>
            <a:srgbClr val="c211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9"/>
          <p:cNvSpPr/>
          <p:nvPr/>
        </p:nvSpPr>
        <p:spPr>
          <a:xfrm>
            <a:off x="0" y="1905120"/>
            <a:ext cx="152280" cy="4952880"/>
          </a:xfrm>
          <a:prstGeom prst="rect">
            <a:avLst/>
          </a:prstGeom>
          <a:solidFill>
            <a:srgbClr val="002a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14" descr=""/>
          <p:cNvPicPr/>
          <p:nvPr/>
        </p:nvPicPr>
        <p:blipFill>
          <a:blip r:embed="rId2"/>
          <a:stretch/>
        </p:blipFill>
        <p:spPr>
          <a:xfrm>
            <a:off x="165240" y="380880"/>
            <a:ext cx="2203200" cy="8510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5" descr=""/>
          <p:cNvPicPr/>
          <p:nvPr/>
        </p:nvPicPr>
        <p:blipFill>
          <a:blip r:embed="rId3"/>
          <a:stretch/>
        </p:blipFill>
        <p:spPr>
          <a:xfrm>
            <a:off x="5410080" y="380880"/>
            <a:ext cx="3286080" cy="84960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296BE-B9D6-4DB5-831C-FFE7E97F0A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10"/>
          <p:cNvSpPr/>
          <p:nvPr/>
        </p:nvSpPr>
        <p:spPr>
          <a:xfrm>
            <a:off x="0" y="1066680"/>
            <a:ext cx="9144000" cy="152640"/>
          </a:xfrm>
          <a:prstGeom prst="rect">
            <a:avLst/>
          </a:prstGeom>
          <a:solidFill>
            <a:srgbClr val="c211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Rectangle 11"/>
          <p:cNvSpPr/>
          <p:nvPr/>
        </p:nvSpPr>
        <p:spPr>
          <a:xfrm>
            <a:off x="0" y="1219320"/>
            <a:ext cx="152280" cy="5638680"/>
          </a:xfrm>
          <a:prstGeom prst="rect">
            <a:avLst/>
          </a:prstGeom>
          <a:solidFill>
            <a:srgbClr val="002a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Picture 1" descr=""/>
          <p:cNvPicPr/>
          <p:nvPr/>
        </p:nvPicPr>
        <p:blipFill>
          <a:blip r:embed="rId2"/>
          <a:stretch/>
        </p:blipFill>
        <p:spPr>
          <a:xfrm>
            <a:off x="492120" y="109440"/>
            <a:ext cx="2201760" cy="84924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1" descr=""/>
          <p:cNvPicPr/>
          <p:nvPr/>
        </p:nvPicPr>
        <p:blipFill>
          <a:blip r:embed="rId3"/>
          <a:stretch/>
        </p:blipFill>
        <p:spPr>
          <a:xfrm>
            <a:off x="5105520" y="73080"/>
            <a:ext cx="3289320" cy="849240"/>
          </a:xfrm>
          <a:prstGeom prst="rect">
            <a:avLst/>
          </a:prstGeom>
          <a:ln w="0">
            <a:noFill/>
          </a:ln>
        </p:spPr>
      </p:pic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 type="sldNum" idx="1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F5715-933F-4429-8623-F06036A85CF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609480" y="2209320"/>
            <a:ext cx="792504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NAFAKA- AFRICA RISING COLLABOR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mplementation Prog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3 Way Forwar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19051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25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Improve Operations and Coord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25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Improve Linkages with Local Government Author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25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rterly Review Meet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685440" y="160020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ASANTEN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KWA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KUNISIKILIZ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4475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0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MAIN ACTIVITIES</a:t>
            </a: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85800" y="20574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ject Inception Mee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Development of Annual Wor kpl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Maize Based System Working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ost-Harvest Working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Vegetable Working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ice Based Systems Working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Development of Demonstration Protocols, Field Layouts, Handboo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1: Activities……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685440" y="1905120"/>
            <a:ext cx="80010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raining of NAFAKA Agronomists and D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wareness meetings with Associations and VBA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te Sel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 algn="just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isi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 algn="just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cessi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 algn="just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nd Characteris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monstration Sites Layou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n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t- Harvest Technology Survey/needs Assess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2.1 Results to date….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33160" y="1904760"/>
            <a:ext cx="7543800" cy="418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22 Demonstration Sites Established- ( Target was 2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6 Groundnuts demonstration sites (5 Kongwa, 1 Kitet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10 Maize (Mono-crop) demonstration sites( 5-Kongwa, 5 –Kitet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6 Maize- beans Intercrop (Mvomer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6 Soybeans demo sites (Mvomer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550 Learners Participa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574800" y="27252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 algn="just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457200" y="1434600"/>
            <a:ext cx="822960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2" descr=""/>
          <p:cNvPicPr/>
          <p:nvPr/>
        </p:nvPicPr>
        <p:blipFill>
          <a:blip r:embed="rId1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4" descr=""/>
          <p:cNvPicPr/>
          <p:nvPr/>
        </p:nvPicPr>
        <p:blipFill>
          <a:blip r:embed="rId1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1" descr=""/>
          <p:cNvPicPr/>
          <p:nvPr/>
        </p:nvPicPr>
        <p:blipFill>
          <a:blip r:embed="rId1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2 Planned Activities (March – July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85440" y="182844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orized Rotary Weeder demonstration with Africa R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GAP Training to Lead Farmers/ VBA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OT Training to Agronomists/D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Management of Established Demo Si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rmation/Strengthening of District Innovation Plat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ost- Harvest Technologies demonstration(PIC bags, Hermetic Cocoons et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Development Field Resource Book/Handboo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1 Challeng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Drou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Rice based System Acti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Operational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20:07:42Z</dcterms:created>
  <dc:creator>Design Studio</dc:creator>
  <dc:description/>
  <dc:language>en-US</dc:language>
  <cp:lastModifiedBy>user</cp:lastModifiedBy>
  <cp:lastPrinted>2012-10-29T12:01:56Z</cp:lastPrinted>
  <dcterms:modified xsi:type="dcterms:W3CDTF">2015-03-05T11:46:10Z</dcterms:modified>
  <cp:revision>302</cp:revision>
  <dc:subject/>
  <dc:title>PowerPoint Presentation</dc:title>
</cp:coreProperties>
</file>